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2AFA-CAD4-44CB-930E-94ACC06BAB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D1CF-D719-4DAA-91AB-E43FBB501C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C173-194A-46E5-BF56-44702A2475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07EB-7D88-4AD7-80B6-89A7BBFA49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E4B0-ADB4-457B-93F9-E15650D504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815E-B524-45D3-9BFB-584DBC7B70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AADE-671B-4483-B09C-02D8BB333F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B37-FD04-4EF7-B6C5-C9B0F9F806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3E8B-3A60-4929-9F0A-3FC7DE928D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402C-0FE4-4540-B056-58E84BDB26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2F38-BD61-4649-9A28-6840BA0147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7C1-05DC-4235-AD0E-FE62A422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135-D88C-48E4-95D6-48754459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A19-1C52-49A4-BF9F-710323CC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731-D770-4C09-8DC6-0D8EEE64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337-E97C-4F39-BE5B-D8CF5AC7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9EC-3565-4295-B831-6903825C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2A8-8D3E-428E-83FE-251C9523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327-8A20-4093-A734-0E78453C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B0D-8C61-4B24-8159-7CFDCC1C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C68-0143-492F-9871-71DA83E6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092-0C8D-4586-8515-EB298E6C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F52-B0CA-4584-9A8D-1E33F152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0144-A562-433C-8CBE-E2BAE804E8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8320" y="47628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227640" y="5060880"/>
            <a:ext cx="27306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101520" y="51228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35000" y="1160640"/>
            <a:ext cx="22654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6948360" y="2274840"/>
            <a:ext cx="1719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114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26920" y="1971720"/>
            <a:ext cx="21272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4292280"/>
            <a:ext cx="4244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246720" y="2205000"/>
            <a:ext cx="2549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2965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4284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5T09:10:26Z</dcterms:modified>
  <cp:revision>37</cp:revision>
  <dc:subject/>
  <dc:title>People who change the world</dc:title>
</cp:coreProperties>
</file>